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080-7415-4A49-8199-395ECF0C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4E2-6291-49BA-BEAA-711DB839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8834B-BCC9-431C-B958-AEF59352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24C72-F318-46B8-8E10-F45F1323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4B8DF-0370-450D-A4C8-CC2D6CD3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C5C20-543D-4E4A-BE4F-17432E13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A5630-7BB7-43AB-A3E2-86FEA68C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8E864-44D4-4CAB-A67C-C47F4242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38A4B-830E-4D0A-B7DF-8B6E4DF6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0AF86-A160-47C1-A74E-DC789AC1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44011-F0EE-4974-9AD2-305C2887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0C0D4-289D-40B4-AD0B-9D40A2CA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D3F-594F-4A94-ADA3-E23E9CC4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A026B-2E60-4B55-BCD0-125755BC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E6890-763C-4C07-987A-52237477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4D3CC-5419-45B7-B295-71B7F2B2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468C6-556B-4403-8A28-7D547249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0F0AD-18D5-4F17-AF12-47262EAD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0DDA6-23E2-45CB-B0AE-9B044983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E8F6F-71F5-4359-8E13-2DCD14C3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31752-61B5-4E68-802D-2742DCBA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9D0BC-3237-4678-8C63-57B72C18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34C21-0CCA-4C90-AC54-6224E913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0C4-ADF0-44CC-B89D-B6FA9A73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D3879-2435-466F-83F5-704D207D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34D5-5567-4B47-89FA-117EA2AA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FE50-7188-48F1-B785-F72E5601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4608-D55F-4FA6-801F-9A2F9550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1915-9FE3-4643-87C9-DB5B3BE3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B0DC-D954-44B4-8E65-04C5206C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F7AD-3FCC-42E1-9EA3-5E6773ED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7018-8A89-4BDE-8E17-3885C8E8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38EE-39FC-425A-A7F0-DC8AB554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E9B6-8125-4459-BC5B-500E94AD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D310-5E9B-4F7D-9B73-E1E74D77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0466-D809-4F06-B9AF-C212BA36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32DD-B286-40ED-A1EC-EBE50FF1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F806-FDFC-4537-876F-93488872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46AF-060B-4FAC-AE10-52F1A3CA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6A2A-5D88-4212-9423-A26FCF03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2F71-A129-4047-ACA0-68766233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B987-5B8A-4B5F-84CF-B47B3682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2CD52-F76A-4EEB-96C7-9803B7F2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0BF-7A81-4846-88C1-044B3A3E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B725D-ECFA-4C82-B967-11584F32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B974-1744-4A3E-B6F5-D097D529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28497-EBA6-4116-9C98-5C58D846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7E585-0CA0-4121-8A35-C53D4022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7E073-F960-42A9-A563-8E1903D1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59E69-E36D-4C47-8977-5565BB45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2C356-1EEE-414A-8B72-62A39C6F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C56D5-B173-4C41-9DFD-7489817F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D3B45-7139-4F3C-A1A2-F8CD76D7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E7A54-19F6-4691-A4D3-BE7A1E4A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770-7EDB-4CAD-8662-7BD78771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23ADD-AC55-48FA-9476-471A235B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13FF3-E611-4020-A439-D8938650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05051-CB2D-47F5-8FA4-99F9A0FF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9A279-3770-4280-845E-49BE4D11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8AD18-8265-47C0-939B-58F92365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23D31-8563-4366-9598-AA143E81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9713D-E269-4B68-BDDC-CCA15281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BF885-9D42-4277-A1FF-A33B4248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F5757-5AC4-4EAF-B2C0-5B267D06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69322-A30A-48F2-8B44-F6A29870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F9A-10BC-4710-A74E-83859016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DA226-62A3-44F6-8F30-299C0492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C8E11-A1A1-47F6-ADBC-C43B72F3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5EB93-D5E4-4867-BDBF-59ED6182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7BC11-5E1C-40CB-BFE4-3B25403C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25791-84CD-4F08-82E6-7DD38EB0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BA1A1-3DD2-4D5D-B31F-64FCD472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3F43E-648A-471B-91AF-E9DDA88D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B0202-C538-4FBB-9EF1-AAA903FA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61524-862B-4C87-8346-8F275D17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2E93B-237C-49DB-9F6B-A170E846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E68-197D-4DC5-ACF5-9FA81695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0DC73-5C59-49FA-9439-CCBE86CE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8B3CB-8901-44C5-BE07-78C6544E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7DDCB-EB94-4F24-82F3-CBC40B6C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C68D7-2508-474F-B91F-13976388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C8C00-F820-48C6-A487-7C46F660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D07CF-B52F-442D-993F-F83E2F21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A9BA2-A05B-4FC7-9DA2-64459EBD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BCA83-E6D1-4A3D-B513-638D6995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55862-2580-4C23-BEA7-8CD8D492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1C0CA-8CC3-472D-8CCB-17550D10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330-E17D-4FC4-9465-0E8BC2A1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81575-63A4-44B9-B336-F6676013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932A2-7A7B-483E-9316-BCCE4894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597D4-D1E6-419E-BF3C-BC483892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593B0-8C26-4C6E-8B9F-92E7EE7C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5DFE1-6E4F-416A-97C3-3A452BC4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61706-8525-41A8-995A-84CA3F7F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71590-1144-4E7E-AB50-0C3CEC3F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50045-B7AB-41BB-BE07-4554FF7F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DA651-0C4B-4F1B-8D84-35828224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4BE18-376C-4EB6-A2A0-B0D819E0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599-0E96-4B01-A427-3B575178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4B0AA-E100-49E5-9162-62A7597C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A2BA1-AA7F-4844-981C-C6DB81F9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DBFD0-8BEB-4E84-A8B6-C6B00A09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42359-B5F7-4C47-A94D-9BBBEBA7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032B9-3DB4-4753-B879-452F02EE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48C11-8EC4-4D5D-A50D-F897ACD0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CE5C8-2C59-4919-B32C-03372FE9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A2439-4505-4479-9E7D-6E19B554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F16DC-272D-4607-85C7-3E69BD32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DABCD-E5D6-418E-BAB1-18F50EA9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795-1A8B-4D17-8F4E-C87C4CE4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1D4EE-2171-4B9C-82B8-D1DB932B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E5B73-6454-45FC-A1F4-E4A54033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C7894-63C1-4F57-B512-C5EE8982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B5C60-D1AA-47B9-B66E-C2121A6D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EB527-DF32-4B93-BE5C-A3D29CAA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E0AC8-E862-4BE2-883C-488E6996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C3346-8B95-4F2F-BEEB-3FDE3CA9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71D52-FA5D-4559-83D1-B5ADD415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26321-E8F3-4877-BD2F-37E594E6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A4B9C-7556-4691-A2CD-C9DFC685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6EDB-EA09-4D6B-AE52-8245EBD592D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3B4C-72E2-47A0-9290-EECD8463A70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E2F6-CF6A-459C-8946-A60B8F8B9F8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0BF4-80C5-46AD-AC34-3835D7B8668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BC2D-3FCD-4DB7-A00C-DA7F96D0B75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F686-584A-4BAD-B95E-4BF4150EAD2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AB96-F0AD-4497-9B84-165E2C01406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403C-2311-4F61-9ACA-F606CFD3707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8862-A68D-44DF-BFFF-9A17F19429A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3B50-C242-427D-8F99-E62A7BF50FE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6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사과가 있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라디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텔레비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풍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어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5364000" y="388152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사과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있습니까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=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팝니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배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배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사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p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be verb), exist,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주머니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married) woman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저씨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없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no, do not exist, have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also, ~ too; a su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도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한국말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중국말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학교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집에서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창문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연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화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neak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냉면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Naengmye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소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oj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라디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선풍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ectric f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언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남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담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igaret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약속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romi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볼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ll pe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맥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e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카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텔레비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에어컨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ir-condition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오빠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여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창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담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2556000" y="27385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4946760" y="2732040"/>
            <a:ext cx="2209680" cy="14889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3"/>
          <a:stretch/>
        </p:blipFill>
        <p:spPr>
          <a:xfrm>
            <a:off x="6986520" y="248904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"/>
          <p:cNvPicPr/>
          <p:nvPr/>
        </p:nvPicPr>
        <p:blipFill>
          <a:blip r:embed="rId4"/>
          <a:stretch/>
        </p:blipFill>
        <p:spPr>
          <a:xfrm>
            <a:off x="2575080" y="482760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"/>
          <p:cNvPicPr/>
          <p:nvPr/>
        </p:nvPicPr>
        <p:blipFill>
          <a:blip r:embed="rId5"/>
          <a:stretch/>
        </p:blipFill>
        <p:spPr>
          <a:xfrm>
            <a:off x="5292720" y="4627440"/>
            <a:ext cx="2114640" cy="21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9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"/>
          <p:cNvPicPr/>
          <p:nvPr/>
        </p:nvPicPr>
        <p:blipFill>
          <a:blip r:embed="rId2"/>
          <a:stretch/>
        </p:blipFill>
        <p:spPr>
          <a:xfrm>
            <a:off x="5202360" y="3419640"/>
            <a:ext cx="1987560" cy="1304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1" descr=""/>
          <p:cNvPicPr/>
          <p:nvPr/>
        </p:nvPicPr>
        <p:blipFill>
          <a:blip r:embed="rId3"/>
          <a:stretch/>
        </p:blipFill>
        <p:spPr>
          <a:xfrm>
            <a:off x="6918480" y="3419640"/>
            <a:ext cx="2185920" cy="14349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"/>
          <p:cNvPicPr/>
          <p:nvPr/>
        </p:nvPicPr>
        <p:blipFill>
          <a:blip r:embed="rId4"/>
          <a:stretch/>
        </p:blipFill>
        <p:spPr>
          <a:xfrm>
            <a:off x="2603520" y="5219640"/>
            <a:ext cx="2952720" cy="1552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"/>
          <p:cNvPicPr/>
          <p:nvPr/>
        </p:nvPicPr>
        <p:blipFill>
          <a:blip r:embed="rId5"/>
          <a:stretch/>
        </p:blipFill>
        <p:spPr>
          <a:xfrm>
            <a:off x="5796000" y="494172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  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볼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3443400" y="2205000"/>
            <a:ext cx="2017440" cy="1511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2"/>
          <a:stretch/>
        </p:blipFill>
        <p:spPr>
          <a:xfrm>
            <a:off x="5508720" y="2185920"/>
            <a:ext cx="1590480" cy="1656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7093080" y="2185920"/>
            <a:ext cx="1946160" cy="14572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3467160" y="374976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5"/>
          <a:stretch/>
        </p:blipFill>
        <p:spPr>
          <a:xfrm>
            <a:off x="3443400" y="4894200"/>
            <a:ext cx="1558800" cy="1189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6"/>
          <a:stretch/>
        </p:blipFill>
        <p:spPr>
          <a:xfrm>
            <a:off x="5219640" y="43322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맥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소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카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4500720" y="2766960"/>
            <a:ext cx="2171520" cy="2104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"/>
          <p:cNvPicPr/>
          <p:nvPr/>
        </p:nvPicPr>
        <p:blipFill>
          <a:blip r:embed="rId2"/>
          <a:stretch/>
        </p:blipFill>
        <p:spPr>
          <a:xfrm>
            <a:off x="6676920" y="2766960"/>
            <a:ext cx="1233720" cy="924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" descr=""/>
          <p:cNvPicPr/>
          <p:nvPr/>
        </p:nvPicPr>
        <p:blipFill>
          <a:blip r:embed="rId3"/>
          <a:stretch/>
        </p:blipFill>
        <p:spPr>
          <a:xfrm>
            <a:off x="6683400" y="3691080"/>
            <a:ext cx="1233360" cy="9237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"/>
          <p:cNvPicPr/>
          <p:nvPr/>
        </p:nvPicPr>
        <p:blipFill>
          <a:blip r:embed="rId4"/>
          <a:stretch/>
        </p:blipFill>
        <p:spPr>
          <a:xfrm>
            <a:off x="4500720" y="4756320"/>
            <a:ext cx="1218960" cy="2050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"/>
          <p:cNvPicPr/>
          <p:nvPr/>
        </p:nvPicPr>
        <p:blipFill>
          <a:blip r:embed="rId5"/>
          <a:stretch/>
        </p:blipFill>
        <p:spPr>
          <a:xfrm>
            <a:off x="6516720" y="4703760"/>
            <a:ext cx="1558800" cy="1797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05T15:57:37Z</dcterms:modified>
  <cp:revision>95</cp:revision>
  <dc:subject/>
  <dc:title>KOREAN LANGUAGE</dc:title>
</cp:coreProperties>
</file>